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9926638" cy="6797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9089D1-9220-4AFC-BA00-DEEC813AF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4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5C2054-0641-41DA-956B-2CC3D4E6165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3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588B4B-73D3-438A-9C0B-32B8809901FA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5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4DE372-6074-47E0-9CFB-74558940BC3F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082709-88EE-482A-9BFA-796477004F05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7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B45250-E709-4EA7-8C1E-DA05ED9702B5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licy makers and stakehold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oth from the public and private sectors, involved in planning and developing health and social care policies and strategies for older peo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ealth and Social care professionals and formal and informal car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y will implement the necessary changes designed by policy makers into the everyday pract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ail older peop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ir carers,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ose at risk of frailty, and the EU population at l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8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4C2D85-3090-49A5-B26E-6870678B8E3B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just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s the curren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e of the A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different components of frailty and its management and analysis of good practice, both at personal and population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I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 a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on European model to approach frailt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railty prevention approach – FPA document). This document will describe a methodology and tools for assessment of pre-frail and frail peo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on health care guidelines or framework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screening, assessing, and intervening to promote better health in older people and reduce the growing burden of health care demands related to frailty and chronic dis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II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recommend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just">
              <a:lnSpc>
                <a:spcPct val="100000"/>
              </a:lnSpc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ross all phase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ncrease knowledge in the field of frail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ndicating what should be prioritized in the next years at European, National and Regional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9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42B0CD-89BF-4FBC-A5CF-BEF4E0E305D7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courage consensus in the concept of the Prevention of Frailty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health and social care ser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mprove understanding of long-term medical conditions affecting older pat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cluding chronic diseases. This will lead to the development and implementation of improved strategies for diagnosis, care, research, and education about frailty, disability and multi-morbid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ibute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more effective and sustainable response to the needs of older peo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particular attention to gender sensitive asp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duce the burden and inefficiency in care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rough support for self-management, better care planning and coordination, innovative organisational approaches and better collaboration between professional and informal c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0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9E62DA-7498-4E17-BD8D-A8606046C09D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S=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1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59C04E-781A-4D8D-A2B8-1033DC7F7277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925720" y="851040"/>
            <a:ext cx="4074840" cy="2292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92520" y="3271320"/>
            <a:ext cx="7940880" cy="26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order to reach the aims of the JA it is important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mmunicate with stakeholders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foster an easy and open access to knowledge, to be transferred into tackling political health and social iss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aise awareness of policy and decision maker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- encourage them to take effective action to improve older people health and to ensure an innovative integrated approach to frailty and disabilit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isseminate and valorize results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– This will result into a policy option to minimize the increased social and healthcare demands associated with frail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2"/>
          </p:nvPr>
        </p:nvSpPr>
        <p:spPr>
          <a:xfrm>
            <a:off x="5622840" y="6456600"/>
            <a:ext cx="4301280" cy="34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C9A3DA-3B45-451C-9D75-0E5E94868492}" type="slidenum">
              <a:rPr b="0" lang="it-IT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8732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304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196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8732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304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1960" y="1709640"/>
            <a:ext cx="1051524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8732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304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196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8732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304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1960" y="1709640"/>
            <a:ext cx="1051524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8732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943040" y="476568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3196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8732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943040" y="5457240"/>
            <a:ext cx="338580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1960" y="1709640"/>
            <a:ext cx="10515240" cy="132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0080" y="545724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0080" y="4765680"/>
            <a:ext cx="513108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1960" y="5457240"/>
            <a:ext cx="10515240" cy="6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516680"/>
            <a:ext cx="12191760" cy="5340960"/>
          </a:xfrm>
          <a:prstGeom prst="rect">
            <a:avLst/>
          </a:prstGeom>
          <a:solidFill>
            <a:srgbClr val="72c9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0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218736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Click to edit Master title style</a:t>
            </a:r>
            <a:endParaRPr b="0" lang="ro-RO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Picture 10" descr=""/>
          <p:cNvPicPr/>
          <p:nvPr/>
        </p:nvPicPr>
        <p:blipFill>
          <a:blip r:embed="rId2"/>
          <a:stretch/>
        </p:blipFill>
        <p:spPr>
          <a:xfrm>
            <a:off x="7171920" y="380520"/>
            <a:ext cx="3495960" cy="918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3"/>
          <a:stretch/>
        </p:blipFill>
        <p:spPr>
          <a:xfrm>
            <a:off x="1523880" y="430560"/>
            <a:ext cx="4057200" cy="81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13080" y="322560"/>
            <a:ext cx="10843200" cy="1421280"/>
          </a:xfrm>
          <a:prstGeom prst="rect">
            <a:avLst/>
          </a:prstGeom>
          <a:solidFill>
            <a:srgbClr val="72c9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0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Master title style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Edit Master text styles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172b3d"/>
                </a:solidFill>
                <a:latin typeface="Calibri"/>
              </a:rPr>
              <a:t>Second level</a:t>
            </a:r>
            <a:endParaRPr b="0" lang="ro-RO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172b3d"/>
                </a:solidFill>
                <a:latin typeface="Calibri"/>
              </a:rPr>
              <a:t>Third level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72b3d"/>
                </a:solidFill>
                <a:latin typeface="Calibri"/>
              </a:rPr>
              <a:t>Fourth level</a:t>
            </a: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172b3d"/>
                </a:solidFill>
                <a:latin typeface="Calibri"/>
              </a:rPr>
              <a:t>Fifth level</a:t>
            </a:r>
            <a:endParaRPr b="0" lang="ro-RO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0" y="322560"/>
            <a:ext cx="612720" cy="1421280"/>
          </a:xfrm>
          <a:prstGeom prst="rect">
            <a:avLst/>
          </a:prstGeom>
          <a:solidFill>
            <a:srgbClr val="172b3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05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0"/>
            <a:ext cx="12191760" cy="4679280"/>
          </a:xfrm>
          <a:prstGeom prst="rect">
            <a:avLst/>
          </a:prstGeom>
          <a:solidFill>
            <a:srgbClr val="72c9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05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ffffff"/>
                </a:solidFill>
                <a:latin typeface="Georgia"/>
              </a:rPr>
              <a:t>Click to edit Master title style</a:t>
            </a:r>
            <a:endParaRPr b="0" lang="ro-RO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172b3d"/>
                </a:solidFill>
                <a:latin typeface="Calibri"/>
              </a:rPr>
              <a:t>Edit Master text styles</a:t>
            </a:r>
            <a:endParaRPr b="0" lang="ro-RO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13080" y="1709640"/>
            <a:ext cx="218160" cy="296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Rectangle 22"/>
          <p:cNvSpPr/>
          <p:nvPr/>
        </p:nvSpPr>
        <p:spPr>
          <a:xfrm>
            <a:off x="613080" y="4679640"/>
            <a:ext cx="218160" cy="1409760"/>
          </a:xfrm>
          <a:prstGeom prst="rect">
            <a:avLst/>
          </a:prstGeom>
          <a:solidFill>
            <a:srgbClr val="72c9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o-RO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4080" y="1795680"/>
            <a:ext cx="10906200" cy="293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EVENT TITLE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EVENT DATE</a:t>
            </a:r>
            <a:br>
              <a:rPr sz="4000"/>
            </a:br>
            <a:endParaRPr b="0" lang="ro-RO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523880" y="4667400"/>
            <a:ext cx="9143640" cy="15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it-IT" sz="4300" spc="-1" strike="noStrike">
                <a:solidFill>
                  <a:srgbClr val="000000"/>
                </a:solidFill>
                <a:latin typeface="Calibri"/>
              </a:rPr>
              <a:t>ADVANTAGE J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GB" sz="3500" spc="-1" strike="noStrike">
                <a:solidFill>
                  <a:srgbClr val="000000"/>
                </a:solidFill>
                <a:latin typeface="Calibri"/>
              </a:rPr>
              <a:t>Joint Action on Prevention of frailty 2017-2019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1960" y="1709640"/>
            <a:ext cx="10515240" cy="28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THANK YOU  !!!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Georgia"/>
              </a:rPr>
              <a:t>www.advantageja.eu</a:t>
            </a:r>
            <a:endParaRPr b="0" lang="ro-RO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1960" y="4765680"/>
            <a:ext cx="1051524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172b3d"/>
                </a:solidFill>
                <a:latin typeface="Calibri"/>
              </a:rPr>
              <a:t>Insert speaker/s name/s and email address</a:t>
            </a:r>
            <a:endParaRPr b="0" lang="ro-RO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ADVANTAGE JA</a:t>
            </a:r>
            <a:br>
              <a:rPr sz="4400"/>
            </a:br>
            <a:r>
              <a:rPr b="0" lang="en-GB" sz="2000" spc="-1" strike="noStrike">
                <a:solidFill>
                  <a:srgbClr val="000000"/>
                </a:solidFill>
                <a:latin typeface="Georgia"/>
              </a:rPr>
              <a:t>“A comprehensive approach to promote a disability-free Advanced age in Europe: the ADVANTAGE initiative”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90000"/>
            <a:ext cx="10548360" cy="444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172b3d"/>
                </a:solidFill>
                <a:latin typeface="Calibri"/>
              </a:rPr>
              <a:t>A Joint Action with </a:t>
            </a:r>
            <a:r>
              <a:rPr b="1" lang="en-US" sz="2600" spc="-1" strike="noStrike">
                <a:solidFill>
                  <a:srgbClr val="172b3d"/>
                </a:solidFill>
                <a:latin typeface="Calibri"/>
              </a:rPr>
              <a:t>22 Member States and 35 organizations </a:t>
            </a:r>
            <a:r>
              <a:rPr b="0" lang="en-US" sz="2600" spc="-1" strike="noStrike">
                <a:solidFill>
                  <a:srgbClr val="172b3d"/>
                </a:solidFill>
                <a:latin typeface="Calibri"/>
              </a:rPr>
              <a:t>involved. 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172b3d"/>
                </a:solidFill>
                <a:latin typeface="Calibri"/>
              </a:rPr>
              <a:t>It is co-funded by the EU and the Member States.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13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DURATION: 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1</a:t>
            </a:r>
            <a:r>
              <a:rPr b="0" lang="en-GB" sz="2600" spc="-1" strike="noStrike" baseline="30000">
                <a:solidFill>
                  <a:srgbClr val="172b3d"/>
                </a:solidFill>
                <a:latin typeface="Calibri"/>
              </a:rPr>
              <a:t>st</a:t>
            </a: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 January 2017 - 31</a:t>
            </a:r>
            <a:r>
              <a:rPr b="0" lang="en-GB" sz="2600" spc="-1" strike="noStrike" baseline="30000">
                <a:solidFill>
                  <a:srgbClr val="172b3d"/>
                </a:solidFill>
                <a:latin typeface="Calibri"/>
              </a:rPr>
              <a:t>st</a:t>
            </a: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 December 2019 (3 years)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13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COORDINATOR: 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it-IT" sz="2600" spc="-1" strike="noStrike">
                <a:solidFill>
                  <a:srgbClr val="172b3d"/>
                </a:solidFill>
                <a:latin typeface="Calibri"/>
              </a:rPr>
              <a:t>Hospital de Getafe SERMAS, Madrid Spain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  <a:p>
            <a:pPr marL="212040" indent="-212040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BUDGET: 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GB" sz="2600" spc="-1" strike="noStrike">
                <a:solidFill>
                  <a:srgbClr val="172b3d"/>
                </a:solidFill>
                <a:latin typeface="Calibri"/>
              </a:rPr>
              <a:t>The estimated eligible costs of the action are EUR 5,738,934.60</a:t>
            </a:r>
            <a:endParaRPr b="0" lang="ro-RO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172b3d"/>
                </a:solidFill>
                <a:latin typeface="Calibri"/>
              </a:rPr>
              <a:t>(The grant reimburses 60% of the action's eligible costs)</a:t>
            </a:r>
            <a:endParaRPr b="0" lang="ro-RO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Imagen 1" descr="C:\Users\Admin\AppData\Local\Microsoft\Windows\INetCacheContent.Word\mapa-con nombres definitivo.jpg"/>
          <p:cNvPicPr/>
          <p:nvPr/>
        </p:nvPicPr>
        <p:blipFill>
          <a:blip r:embed="rId1"/>
          <a:stretch/>
        </p:blipFill>
        <p:spPr>
          <a:xfrm>
            <a:off x="8461080" y="2518560"/>
            <a:ext cx="2892600" cy="27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Other beneficiarie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54800"/>
            <a:ext cx="10515240" cy="4047840"/>
          </a:xfrm>
          <a:prstGeom prst="rect">
            <a:avLst/>
          </a:prstGeom>
          <a:noFill/>
          <a:ln w="0">
            <a:noFill/>
          </a:ln>
        </p:spPr>
        <p:txBody>
          <a:bodyPr numCol="3" spcCol="0" anchor="t">
            <a:noAutofit/>
          </a:bodyPr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Medizinische Universitat Graz (MUG), Austr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Institut Scientifique de Sante Publique (WIV-ISP (IPH)), Belgium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Natsionalen Centar Po Obshtestveno Zdrave i Analizi (NCPHA), Bulgar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Hrvatski Zavod Za Javno Zdravstvo (CIPH), Croat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Ministry of Health of the Republic of Cyprus (MOH), Cyprus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Terveyden Ja Hyvinvoinnin Laitos (THL), Finland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Agence Nationale De Sante Publique (ANSP), France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1000" spc="-1" strike="noStrike">
                <a:solidFill>
                  <a:srgbClr val="172b3d"/>
                </a:solidFill>
                <a:latin typeface="Calibri"/>
              </a:rPr>
              <a:t>Ministere des Affaires Sociales et de la Sante (MASSDF), France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Medizinische Hochschule Hannover (MHH), German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Company of Psychosocial Research and Intervention (EPSEP) (SPRI), Greece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Panepistimio Patron (UPAT), Greece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Nemzeti Egeszsegfejlesztesi Intezet (NIHD), Hungar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Health Service Executive HSE (HSE-NUIG), Ireland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Agenzia Nazionale per i Servizi Sanitari Regionali (AGENAS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Istituto Nazionale di Riposo e Cura per Anziani INRCA (INRCA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Istituto Superiore di Sanita (ISS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Regione Marche (ARS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Universita Cattolica del Sacro Cuore (UCSC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Lietuvos Sveikatos Mokslu Universitetas (LSMU), Lithuan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Ministry for the Family and Social Solidarity (MFSS), Malt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Rijksinstituut voor Volksgezondheid en Milieu (RIVM), Netherlands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Folkehelseinstituttet (NIPH Norway), Norwa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Narodowy Instytut Geriatrii Reumatologii i Rehabilitacji Im.Prof.Dr Hab. Med. Eleonory Reicher (NIGRiR), Poland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Ministerio da Saude - Republica Portuguesa (DGS), Portugal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Centrul National de Sanatate Mintala si Lupta Antidrog (CNSM), Roman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coala Nationala de Sanatate Publica, Management si Perfectionare in Domeniul Sanitar Bucuresti (SNSPMPDSB), Roman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Universitatea Babes Bolyai (UBB), Roman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Nacionalni Institut Za Javno Zdravje (NIJZ), Slovenia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Asociacion Centro de Excelencia Internacional en Investigacion Sobre Cronicidad (KRONIKGUNE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Consejeria de Salud de la Junta de Andalucia (CSJA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Fundacion para la Investigacion del Hospital Clinico de la Comunitat Valenciana, Fundacion Incliva (INCLIVA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NHS Lanarkshire (NHS LANARKSHIRE), United Kingdom.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en-GB" sz="1000" spc="-1" strike="noStrike">
                <a:solidFill>
                  <a:srgbClr val="172b3d"/>
                </a:solidFill>
                <a:latin typeface="Calibri"/>
              </a:rPr>
              <a:t>AFFILIATED ENTITIES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Fundacion Para La Investigacion Biomedica Del Hospital Universitario De Getafe (FIBHUG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ervicio de Salud de Castilla la Mancha (SESCAM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ervicio Vasco de Salud Osakidetza (Osakidetza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ervicio Andaluz de Salud (SAS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Fundacion Publica Andaluza Progreso y Salud (FPS), Spain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tatni Zdravotni Ustav (NIPH), </a:t>
            </a:r>
            <a:r>
              <a:rPr b="0" lang="en-US" sz="1000" spc="-1" strike="noStrike">
                <a:solidFill>
                  <a:srgbClr val="172b3d"/>
                </a:solidFill>
                <a:latin typeface="Calibri"/>
              </a:rPr>
              <a:t>Czech Republic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Azienda Ospedaliera Universitaria Federico II (FEDERICO II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Istituto di Ricerche Economico Sociali del Piemonte (IRES Piemonte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Regione Emilia Romagna (RER-ASSR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Regione Liguria (Liguria), Italy;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spcBef>
                <a:spcPts val="300"/>
              </a:spcBef>
              <a:buClr>
                <a:srgbClr val="172b3d"/>
              </a:buClr>
              <a:buFont typeface="Arial"/>
              <a:buChar char="•"/>
              <a:tabLst>
                <a:tab algn="l" pos="0"/>
              </a:tabLst>
            </a:pPr>
            <a:r>
              <a:rPr b="0" lang="it-IT" sz="1000" spc="-1" strike="noStrike">
                <a:solidFill>
                  <a:srgbClr val="172b3d"/>
                </a:solidFill>
                <a:latin typeface="Calibri"/>
              </a:rPr>
              <a:t>Svim – Sviluppo Marche Spa Società Unipersonale (SVIM), Italy.</a:t>
            </a: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Objective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e 3"/>
          <p:cNvSpPr/>
          <p:nvPr/>
        </p:nvSpPr>
        <p:spPr>
          <a:xfrm>
            <a:off x="330480" y="2049120"/>
            <a:ext cx="5970960" cy="3921480"/>
          </a:xfrm>
          <a:prstGeom prst="ellipse">
            <a:avLst/>
          </a:prstGeom>
          <a:solidFill>
            <a:srgbClr val="e5f5f7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VANTAGE JA aims a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building a common understanding on frailty to be used in all the Member States, by policy makers and other stakeholders, which should be the base for a common management both at individual and population level of older people who are frail or at risk of developing frailty throughout the European U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12040" y="2049120"/>
            <a:ext cx="4680720" cy="40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10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To promote important sustainable changes in the organization and implementation of care in the Health and Social Systems;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To prepare a common European framework on screening, early diagnosis, prevention, assessment and management of frailty;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To develop a common strategy on frailty prevention and management, including raising awareness and advocacy among stakeholders, especially policy and decision makers.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TARGET GROUP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990800"/>
            <a:ext cx="10515240" cy="40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Policy makers and stakeholders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, both from the public and private sectors.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Health and Social care professionals and formal and informal carers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. 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Calibri Light"/>
              <a:buAutoNum type="arabicPeriod"/>
            </a:pP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Frail older people 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and their carers, and </a:t>
            </a: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those at risk of frailty, and the EU population at large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.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IMPLEMENTATION PHASE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ccia a destra 3"/>
          <p:cNvSpPr/>
          <p:nvPr/>
        </p:nvSpPr>
        <p:spPr>
          <a:xfrm>
            <a:off x="491040" y="1795680"/>
            <a:ext cx="3452400" cy="4142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f5f7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hase 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2017) - State of the Art - background information collection, analysis and rational discussion and drafting of preliminary docu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ccia a destra 4"/>
          <p:cNvSpPr/>
          <p:nvPr/>
        </p:nvSpPr>
        <p:spPr>
          <a:xfrm>
            <a:off x="4176360" y="2132640"/>
            <a:ext cx="3435840" cy="4373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f5f7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hase 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2018) - developing and testing the draft version of the common European model to approach frailty (frailty prevention approach – FPA docum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ccia a destra 5"/>
          <p:cNvSpPr/>
          <p:nvPr/>
        </p:nvSpPr>
        <p:spPr>
          <a:xfrm>
            <a:off x="7908120" y="2529000"/>
            <a:ext cx="3570840" cy="4312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5f5f7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hase II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2019) - drafting final documents, debating these with participant MSs, and drafting the final framework, the FPA document and policy recommend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EXPECTED OUTCOMES /RESULT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90000"/>
            <a:ext cx="10515240" cy="474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Develop and </a:t>
            </a: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encourage consensus in the concept of the Prevention of Frailty</a:t>
            </a:r>
            <a:r>
              <a:rPr b="0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in health and social care services. 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</a:pP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Improve understanding of long-term medical conditions affecting older patients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, including chronic diseases. 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Contribute to </a:t>
            </a: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a more effective and sustainable response to the needs of older people</a:t>
            </a:r>
            <a:r>
              <a:rPr b="0" lang="en-US" sz="2800" spc="-1" strike="noStrike">
                <a:solidFill>
                  <a:srgbClr val="172b3d"/>
                </a:solidFill>
                <a:latin typeface="Calibri"/>
              </a:rPr>
              <a:t>.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72b3d"/>
              </a:buClr>
              <a:buFont typeface="Arial"/>
              <a:buChar char="•"/>
            </a:pPr>
            <a:r>
              <a:rPr b="1" lang="en-US" sz="2800" spc="-1" strike="noStrike" u="sng">
                <a:solidFill>
                  <a:srgbClr val="172b3d"/>
                </a:solidFill>
                <a:uFillTx/>
                <a:latin typeface="Calibri"/>
              </a:rPr>
              <a:t>Reduce the burden and inefficiency in care delivery.</a:t>
            </a: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Georgia"/>
              </a:rPr>
              <a:t>EXPECTED OUTCOMES /RESULTS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vale 3"/>
          <p:cNvSpPr/>
          <p:nvPr/>
        </p:nvSpPr>
        <p:spPr>
          <a:xfrm>
            <a:off x="659160" y="1965600"/>
            <a:ext cx="10313280" cy="3824640"/>
          </a:xfrm>
          <a:prstGeom prst="ellipse">
            <a:avLst/>
          </a:prstGeom>
          <a:solidFill>
            <a:srgbClr val="e5f5f7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GENERAL EUROPEAN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e 4"/>
          <p:cNvSpPr/>
          <p:nvPr/>
        </p:nvSpPr>
        <p:spPr>
          <a:xfrm>
            <a:off x="4373640" y="3877920"/>
            <a:ext cx="6477480" cy="2665800"/>
          </a:xfrm>
          <a:prstGeom prst="ellipse">
            <a:avLst/>
          </a:prstGeom>
          <a:solidFill>
            <a:srgbClr val="72c9d3"/>
          </a:solidFill>
          <a:ln>
            <a:solidFill>
              <a:srgbClr val="72c9d3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 SPECIFIC MS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hich will be aligned with the European one, but implemented according to the local capability and contex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it-IT" sz="4400" spc="-1" strike="noStrike">
                <a:solidFill>
                  <a:srgbClr val="000000"/>
                </a:solidFill>
                <a:latin typeface="Georgia"/>
              </a:rPr>
              <a:t>ADVANTAGE JA DISSEMINATION</a:t>
            </a:r>
            <a:endParaRPr b="0" lang="ro-RO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47920" y="1828440"/>
            <a:ext cx="10515240" cy="4434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o-RO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vale 3"/>
          <p:cNvSpPr/>
          <p:nvPr/>
        </p:nvSpPr>
        <p:spPr>
          <a:xfrm>
            <a:off x="3709440" y="1828440"/>
            <a:ext cx="2955240" cy="1526760"/>
          </a:xfrm>
          <a:prstGeom prst="ellipse">
            <a:avLst/>
          </a:prstGeom>
          <a:solidFill>
            <a:srgbClr val="92d050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gagement of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ttangolo 4"/>
          <p:cNvSpPr/>
          <p:nvPr/>
        </p:nvSpPr>
        <p:spPr>
          <a:xfrm>
            <a:off x="4087080" y="3668760"/>
            <a:ext cx="3436920" cy="2037600"/>
          </a:xfrm>
          <a:prstGeom prst="rect">
            <a:avLst/>
          </a:prstGeom>
          <a:solidFill>
            <a:srgbClr val="72c9d3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WP2 Communication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ttangolo arrotondato 5"/>
          <p:cNvSpPr/>
          <p:nvPr/>
        </p:nvSpPr>
        <p:spPr>
          <a:xfrm>
            <a:off x="8391960" y="2439720"/>
            <a:ext cx="3381840" cy="13892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cial Networks – Facebook and Tw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-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ws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nettore 6"/>
          <p:cNvSpPr/>
          <p:nvPr/>
        </p:nvSpPr>
        <p:spPr>
          <a:xfrm>
            <a:off x="7767000" y="4440600"/>
            <a:ext cx="2522520" cy="2260080"/>
          </a:xfrm>
          <a:prstGeom prst="flowChartConnector">
            <a:avLst/>
          </a:prstGeom>
          <a:solidFill>
            <a:srgbClr val="ffff00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Participation at 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 Conference in Bruxe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e 12"/>
          <p:cNvSpPr/>
          <p:nvPr/>
        </p:nvSpPr>
        <p:spPr>
          <a:xfrm>
            <a:off x="587520" y="2896560"/>
            <a:ext cx="2687760" cy="154332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af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Bri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nal Layman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ttangolo arrotondato 13"/>
          <p:cNvSpPr/>
          <p:nvPr/>
        </p:nvSpPr>
        <p:spPr>
          <a:xfrm>
            <a:off x="875880" y="5192280"/>
            <a:ext cx="2963160" cy="132156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s releases/con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/T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  <Words>1389</Words>
  <Paragraphs>14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18:25:13Z</dcterms:created>
  <dc:creator>Stefan</dc:creator>
  <dc:description/>
  <dc:language>en-US</dc:language>
  <cp:lastModifiedBy>Elisabetta Vittori</cp:lastModifiedBy>
  <cp:lastPrinted>2017-05-15T10:12:23Z</cp:lastPrinted>
  <dcterms:modified xsi:type="dcterms:W3CDTF">2017-05-26T10:14:29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Widescreen</vt:lpwstr>
  </property>
  <property fmtid="{D5CDD505-2E9C-101B-9397-08002B2CF9AE}" pid="4" name="Slides">
    <vt:r8>10</vt:r8>
  </property>
</Properties>
</file>