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9926638" cy="6797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E9467-A374-41BA-856A-3A2AAE3D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4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859E0-A127-460A-BBA4-D1E2079CA0F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DF704-18D6-446C-AD62-E77105F2B7A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5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79F846-E41F-4D4B-A6B7-5A8B1C80720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1E3452-A6FC-4D9F-B224-02177296FE25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DA35BD-C320-4C4C-B15F-FBA7D0ABCF5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cy makers and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oth from the public and private sectors, involved in planning and developing health and social care policies and strategies for older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alth and Social care professionals and formal and informal car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y will implement the necessary changes designed by policy makers into the everyday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ail old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carers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ose at risk of frailty, and the EU population at 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8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C8961-47A8-4A46-B6ED-59EB2FA73358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s the curr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e of the 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different components of frailty and its management and analysis of good practice, both at personal and population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 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 European model to approach frail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railty prevention approach – FPA document). This document will describe a methodology and tools for assessment of pre-frail and frail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 health care guidelines or framewor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creening, assessing, and intervening to promote better health in older people and reduce the growing burden of health care demands related to frailty and chronic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ross all phase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rease knowledge in the field of frail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dicating what should be prioritized in the next years at European, National and Regional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46F96A-9869-49A2-903F-0CE152CE207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courage consensus in the concept of the Prevention of Frail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ealth and social care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rove understanding of long-term medical conditions affecting older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luding chronic diseases. This will lead to the development and implementation of improved strategies for diagnosis, care, research, and education about frailty, disability and multi-morb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more effective and sustainable response to the needs of older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particular attention to gender sensitive asp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ce the burden and inefficiency in care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support for self-management, better care planning and coordination, innovative organisational approaches and better collaboration between professional and informal 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0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EC3D0F-F6A4-4EA7-81B9-4EC4B4B17C06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S=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51BC6C-1994-4A27-905B-4F4B4575E7F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order to reach the aims of the JA it is importan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mmunicate with stakeholder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foster an easy and open access to knowledge, to be transferred into tackling political health and social iss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ise awareness of policy and decision make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encourage them to take effective action to improve older people health and to ensure an innovative integrated approach to frailty and disa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isseminate and valorize result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This will result into a policy option to minimize the increased social and healthcare demands associated with frail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2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DEEC8F-5B67-48F8-8778-69CCCB3BDCE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516680"/>
            <a:ext cx="12191760" cy="534096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218736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2"/>
          <a:stretch/>
        </p:blipFill>
        <p:spPr>
          <a:xfrm>
            <a:off x="7171920" y="380520"/>
            <a:ext cx="3495960" cy="918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523880" y="430560"/>
            <a:ext cx="4057200" cy="81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13080" y="322560"/>
            <a:ext cx="10843200" cy="142128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Edit Master text styles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Second level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72b3d"/>
                </a:solidFill>
                <a:latin typeface="Calibri"/>
              </a:rPr>
              <a:t>Third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72b3d"/>
                </a:solidFill>
                <a:latin typeface="Calibri"/>
              </a:rPr>
              <a:t>Fourth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72b3d"/>
                </a:solidFill>
                <a:latin typeface="Calibri"/>
              </a:rPr>
              <a:t>Fifth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0" y="322560"/>
            <a:ext cx="612720" cy="1421280"/>
          </a:xfrm>
          <a:prstGeom prst="rect">
            <a:avLst/>
          </a:prstGeom>
          <a:solidFill>
            <a:srgbClr val="172b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0"/>
            <a:ext cx="12191760" cy="467928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Edit Master text styles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13080" y="1709640"/>
            <a:ext cx="218160" cy="296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13080" y="4679640"/>
            <a:ext cx="218160" cy="140976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4080" y="1795680"/>
            <a:ext cx="10906200" cy="293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EVENT TITL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EVENT DATE</a:t>
            </a:r>
            <a:br>
              <a:rPr sz="4000"/>
            </a:br>
            <a:endParaRPr b="0" lang="ro-RO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4667400"/>
            <a:ext cx="914364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it-IT" sz="4300" spc="-1" strike="noStrike">
                <a:solidFill>
                  <a:srgbClr val="000000"/>
                </a:solidFill>
                <a:latin typeface="Calibri"/>
              </a:rPr>
              <a:t>ADVANTAGE J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Joint Action on Prevention of frailty 2017-201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THANK YOU  !!!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www.advantageja.eu</a:t>
            </a:r>
            <a:endParaRPr b="0" lang="ro-RO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Insert speaker/s name/s and email address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DVANTAGE JA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“A comprehensive approach to promote a disability-free Advanced age in Europe: the ADVANTAGE initiative”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90000"/>
            <a:ext cx="10548360" cy="444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A Joint Action with </a:t>
            </a:r>
            <a:r>
              <a:rPr b="1" lang="en-US" sz="2600" spc="-1" strike="noStrike">
                <a:solidFill>
                  <a:srgbClr val="172b3d"/>
                </a:solidFill>
                <a:latin typeface="Calibri"/>
              </a:rPr>
              <a:t>22 Member States and 35 organizations </a:t>
            </a: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involved.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It is co-funded by the EU and the Member States.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3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DURATION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1</a:t>
            </a:r>
            <a:r>
              <a:rPr b="0" lang="en-GB" sz="2600" spc="-1" strike="noStrike" baseline="30000">
                <a:solidFill>
                  <a:srgbClr val="172b3d"/>
                </a:solidFill>
                <a:latin typeface="Calibri"/>
              </a:rPr>
              <a:t>st</a:t>
            </a: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 January 2017 - 31</a:t>
            </a:r>
            <a:r>
              <a:rPr b="0" lang="en-GB" sz="2600" spc="-1" strike="noStrike" baseline="30000">
                <a:solidFill>
                  <a:srgbClr val="172b3d"/>
                </a:solidFill>
                <a:latin typeface="Calibri"/>
              </a:rPr>
              <a:t>st</a:t>
            </a: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 December 2019 (3 years)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3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COORDINATOR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it-IT" sz="2600" spc="-1" strike="noStrike">
                <a:solidFill>
                  <a:srgbClr val="172b3d"/>
                </a:solidFill>
                <a:latin typeface="Calibri"/>
              </a:rPr>
              <a:t>Hospital de Getafe SERMAS, Madrid Spain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BUDGET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The estimated eligible costs of the action are EUR 5,738,934.60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2b3d"/>
                </a:solidFill>
                <a:latin typeface="Calibri"/>
              </a:rPr>
              <a:t>(The grant reimburses 60% of the action's eligible costs)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Imagen 1" descr="C:\Users\Admin\AppData\Local\Microsoft\Windows\INetCacheContent.Word\mapa-con nombres definitivo.jpg"/>
          <p:cNvPicPr/>
          <p:nvPr/>
        </p:nvPicPr>
        <p:blipFill>
          <a:blip r:embed="rId1"/>
          <a:stretch/>
        </p:blipFill>
        <p:spPr>
          <a:xfrm>
            <a:off x="8461080" y="2518560"/>
            <a:ext cx="2892600" cy="27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ther beneficiari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54800"/>
            <a:ext cx="10515240" cy="4047840"/>
          </a:xfrm>
          <a:prstGeom prst="rect">
            <a:avLst/>
          </a:prstGeom>
          <a:noFill/>
          <a:ln w="0">
            <a:noFill/>
          </a:ln>
        </p:spPr>
        <p:txBody>
          <a:bodyPr numCol="3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edizinische Universitat Graz (MUG), Austr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nstitut Scientifique de Sante Publique (WIV-ISP (IPH)), Belgium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atsionalen Centar Po Obshtestveno Zdrave i Analizi (NCPHA), Bulgar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Hrvatski Zavod Za Javno Zdravstvo (CIPH), Croat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Ministry of Health of the Republic of Cyprus (MOH), Cyprus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Terveyden Ja Hyvinvoinnin Laitos (THL), Fin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Agence Nationale De Sante Publique (ANSP), Fran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000" spc="-1" strike="noStrike">
                <a:solidFill>
                  <a:srgbClr val="172b3d"/>
                </a:solidFill>
                <a:latin typeface="Calibri"/>
              </a:rPr>
              <a:t>Ministere des Affaires Sociales et de la Sante (MASSDF), Fran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edizinische Hochschule Hannover (MHH), German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Company of Psychosocial Research and Intervention (EPSEP) (SPRI), Gree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Panepistimio Patron (UPAT), Gree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emzeti Egeszsegfejlesztesi Intezet (NIHD), Hungar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Health Service Executive HSE (HSE-NUIG), Ire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genzia Nazionale per i Servizi Sanitari Regionali (AGENA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Nazionale di Riposo e Cura per Anziani INRCA (INRCA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Superiore di Sanita (IS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Marche (AR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Universita Cattolica del Sacro Cuore (UCSC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Lietuvos Sveikatos Mokslu Universitetas (LSMU), Lithu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Ministry for the Family and Social Solidarity (MFSS), Malt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Rijksinstituut voor Volksgezondheid en Milieu (RIVM), Netherlands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Folkehelseinstituttet (NIPH Norway), Norwa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Narodowy Instytut Geriatrii Reumatologii i Rehabilitacji Im.Prof.Dr Hab. Med. Eleonory Reicher (NIGRiR), Po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inisterio da Saude - Republica Portuguesa (DGS), Portugal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Centrul National de Sanatate Mintala si Lupta Antidrog (CNSM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coala Nationala de Sanatate Publica, Management si Perfectionare in Domeniul Sanitar Bucuresti (SNSPMPDSB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Universitatea Babes Bolyai (UBB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acionalni Institut Za Javno Zdravje (NIJZ), Slove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sociacion Centro de Excelencia Internacional en Investigacion Sobre Cronicidad (KRONIKGUNE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Consejeria de Salud de la Junta de Andalucia (CSJ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ara la Investigacion del Hospital Clinico de la Comunitat Valenciana, Fundacion Incliva (INCLIV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NHS Lanarkshire (NHS LANARKSHIRE), United Kingdom.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AFFILIATED ENTITIES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ara La Investigacion Biomedica Del Hospital Universitario De Getafe (FIBHUG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de Salud de Castilla la Mancha (SESCAM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Vasco de Salud Osakidetza (Osakidetz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Andaluz de Salud (SAS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ublica Andaluza Progreso y Salud (FPS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tatni Zdravotni Ustav (NIPH), </a:t>
            </a:r>
            <a:r>
              <a:rPr b="0" lang="en-US" sz="1000" spc="-1" strike="noStrike">
                <a:solidFill>
                  <a:srgbClr val="172b3d"/>
                </a:solidFill>
                <a:latin typeface="Calibri"/>
              </a:rPr>
              <a:t>Czech Republic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zienda Ospedaliera Universitaria Federico II (FEDERICO II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di Ricerche Economico Sociali del Piemonte (IRES Piemonte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Emilia Romagna (RER-ASSR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Liguria (Liguria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vim – Sviluppo Marche Spa Società Unipersonale (SVIM), Italy.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bjectiv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e 3"/>
          <p:cNvSpPr/>
          <p:nvPr/>
        </p:nvSpPr>
        <p:spPr>
          <a:xfrm>
            <a:off x="330480" y="2049120"/>
            <a:ext cx="5970960" cy="3921480"/>
          </a:xfrm>
          <a:prstGeom prst="ellipse">
            <a:avLst/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VANTAGE JA aims a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building a common understanding on frailty to be used in all the Member States, by policy makers and other stakeholders, which should be the base for a common management both at individual and population level of older people who are frail or at risk of developing frailty throughout the European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2040" y="2049120"/>
            <a:ext cx="468072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promote important sustainable changes in the organization and implementation of care in the Health and Social Systems;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prepare a common European framework on screening, early diagnosis, prevention, assessment and management of frailty;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develop a common strategy on frailty prevention and management, including raising awareness and advocacy among stakeholders, especially policy and decision makers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ARGET GROUP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90800"/>
            <a:ext cx="10515240" cy="40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Policy makers and stakeholder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, both from the public and private sectors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Health and Social care professionals and formal and informal carer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Frail older people 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and their carers, and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those at risk of frailty, and the EU population at large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IMPLEMENTATION PHAS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ccia a destra 3"/>
          <p:cNvSpPr/>
          <p:nvPr/>
        </p:nvSpPr>
        <p:spPr>
          <a:xfrm>
            <a:off x="491040" y="1795680"/>
            <a:ext cx="3452400" cy="414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7) - State of the Art - background information collection, analysis and rational discussion and drafting of preliminary docu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ccia a destra 4"/>
          <p:cNvSpPr/>
          <p:nvPr/>
        </p:nvSpPr>
        <p:spPr>
          <a:xfrm>
            <a:off x="4176360" y="2132640"/>
            <a:ext cx="3435840" cy="437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8) - developing and testing the draft version of the common European model to approach frailty (frailty prevention approach – FPA docu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ccia a destra 5"/>
          <p:cNvSpPr/>
          <p:nvPr/>
        </p:nvSpPr>
        <p:spPr>
          <a:xfrm>
            <a:off x="7908120" y="2529000"/>
            <a:ext cx="3570840" cy="4312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9) - drafting final documents, debating these with participant MSs, and drafting the final framework, the FPA document and policy recommend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PECTED OUTCOMES /RESULT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90000"/>
            <a:ext cx="10515240" cy="47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Develop and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encourage consensus in the concept of the Prevention of Frailty</a:t>
            </a:r>
            <a:r>
              <a:rPr b="0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in health and social care services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Improve understanding of long-term medical conditions affecting older patient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, including chronic diseases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Contribute to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a more effective and sustainable response to the needs of older people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Reduce the burden and inefficiency in care delivery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PECTED OUTCOMES /RESULT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e 3"/>
          <p:cNvSpPr/>
          <p:nvPr/>
        </p:nvSpPr>
        <p:spPr>
          <a:xfrm>
            <a:off x="659160" y="1965600"/>
            <a:ext cx="10313280" cy="3824640"/>
          </a:xfrm>
          <a:prstGeom prst="ellipse">
            <a:avLst/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GENERAL EUROPEA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e 4"/>
          <p:cNvSpPr/>
          <p:nvPr/>
        </p:nvSpPr>
        <p:spPr>
          <a:xfrm>
            <a:off x="4373640" y="3877920"/>
            <a:ext cx="6477480" cy="2665800"/>
          </a:xfrm>
          <a:prstGeom prst="ellipse">
            <a:avLst/>
          </a:prstGeom>
          <a:solidFill>
            <a:srgbClr val="72c9d3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PECIFIC M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will be aligned with the European one, but implemented according to the local capability and con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Georgia"/>
              </a:rPr>
              <a:t>ADVANTAGE JA DISSEMINATION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7920" y="1828440"/>
            <a:ext cx="10515240" cy="4434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e 3"/>
          <p:cNvSpPr/>
          <p:nvPr/>
        </p:nvSpPr>
        <p:spPr>
          <a:xfrm>
            <a:off x="3709440" y="1828440"/>
            <a:ext cx="2955240" cy="1526760"/>
          </a:xfrm>
          <a:prstGeom prst="ellipse">
            <a:avLst/>
          </a:prstGeom>
          <a:solidFill>
            <a:srgbClr val="92d050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agement of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4"/>
          <p:cNvSpPr/>
          <p:nvPr/>
        </p:nvSpPr>
        <p:spPr>
          <a:xfrm>
            <a:off x="4087080" y="3668760"/>
            <a:ext cx="3436920" cy="2037600"/>
          </a:xfrm>
          <a:prstGeom prst="rect">
            <a:avLst/>
          </a:prstGeom>
          <a:solidFill>
            <a:srgbClr val="72c9d3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WP2 Communication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arrotondato 5"/>
          <p:cNvSpPr/>
          <p:nvPr/>
        </p:nvSpPr>
        <p:spPr>
          <a:xfrm>
            <a:off x="8391960" y="2439720"/>
            <a:ext cx="3381840" cy="1389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Networks – Facebook and 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-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nettore 6"/>
          <p:cNvSpPr/>
          <p:nvPr/>
        </p:nvSpPr>
        <p:spPr>
          <a:xfrm>
            <a:off x="7767000" y="4440600"/>
            <a:ext cx="2522520" cy="2260080"/>
          </a:xfrm>
          <a:prstGeom prst="flowChartConnector">
            <a:avLst/>
          </a:prstGeom>
          <a:solidFill>
            <a:srgbClr val="ffff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articipation at 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 Conference in Brux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e 12"/>
          <p:cNvSpPr/>
          <p:nvPr/>
        </p:nvSpPr>
        <p:spPr>
          <a:xfrm>
            <a:off x="587520" y="2896560"/>
            <a:ext cx="2687760" cy="154332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f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Br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 Layma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arrotondato 13"/>
          <p:cNvSpPr/>
          <p:nvPr/>
        </p:nvSpPr>
        <p:spPr>
          <a:xfrm>
            <a:off x="875880" y="5192280"/>
            <a:ext cx="2963160" cy="13215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 releases/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/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  <Words>1389</Words>
  <Paragraphs>1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8:25:13Z</dcterms:created>
  <dc:creator>Stefan</dc:creator>
  <dc:description/>
  <dc:language>en-US</dc:language>
  <cp:lastModifiedBy>Elisabetta Vittori</cp:lastModifiedBy>
  <cp:lastPrinted>2017-05-15T10:12:23Z</cp:lastPrinted>
  <dcterms:modified xsi:type="dcterms:W3CDTF">2017-05-26T10:14:2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Widescreen</vt:lpwstr>
  </property>
  <property fmtid="{D5CDD505-2E9C-101B-9397-08002B2CF9AE}" pid="4" name="Slides">
    <vt:r8>10</vt:r8>
  </property>
</Properties>
</file>